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57639"/>
        <c:axId val="279646"/>
      </c:barChart>
      <c:catAx>
        <c:axId val="72457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46"/>
        <c:crosses val="autoZero"/>
        <c:auto val="1"/>
        <c:lblAlgn val="ctr"/>
        <c:lblOffset val="100"/>
        <c:noMultiLvlLbl val="0"/>
      </c:catAx>
      <c:valAx>
        <c:axId val="279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57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2BB-F9FC-44AE-8F28-450E6487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F5B-DC7E-4EFE-99F9-C38F873A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689-D196-4B45-93D5-9D8EA3BB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699-FCB8-4145-9B9E-B746BA78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91E-0ADF-4491-9F27-8CE6525D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2FB-9002-46C5-B1E0-EB97F02D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883-FB06-4290-8DA6-E3B6D85C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975-4144-497A-B21A-10AFD318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281-C88F-4D6A-B37F-D549681A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FCC-3D6B-4D39-B389-D7D8F10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FA8-D555-47F6-904B-000B2235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0C2-1DC8-4384-A969-03A13AA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5BC1-F7CB-41A6-A5ED-5184D093B4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