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66306"/>
        <c:axId val="76214572"/>
      </c:barChart>
      <c:catAx>
        <c:axId val="19466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14572"/>
        <c:crosses val="autoZero"/>
        <c:auto val="1"/>
        <c:lblAlgn val="ctr"/>
        <c:lblOffset val="100"/>
        <c:noMultiLvlLbl val="0"/>
      </c:catAx>
      <c:valAx>
        <c:axId val="76214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66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A99-685E-4512-A104-6F7767EA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07F-4EEB-4643-B07C-53EED0B3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A47-1BB4-4829-B156-2A62A023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DCE-0BB8-4F99-9F94-7E668DE3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9E1-FD27-4468-A51D-00D8DC08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922-97FB-40BD-A8E6-64B6F7D3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682-B051-4164-A533-98CAD443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A36-5BFA-47CA-A442-A6858C4F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8B7-2660-482B-9775-89DA3EE6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2D8-F48F-49C9-954A-7B0DF31C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2C1-7DB4-442D-9D1F-78D6E634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15F-480C-4AF6-9CCC-48DC0796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74624-A898-4210-8FEF-CBAC7857C2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