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275850"/>
        <c:axId val="19059840"/>
      </c:barChart>
      <c:catAx>
        <c:axId val="982758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059840"/>
        <c:crosses val="autoZero"/>
        <c:auto val="1"/>
        <c:lblAlgn val="ctr"/>
        <c:lblOffset val="100"/>
        <c:noMultiLvlLbl val="0"/>
      </c:catAx>
      <c:valAx>
        <c:axId val="190598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2758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90B2-A868-4CC5-96BD-84F901203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4EB3-B37C-45F9-B1AE-1EF29009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C2B4-1B3D-4252-8859-D4A51E763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83EB-DDCB-452C-A843-FBD1AAB01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B23B-C8E8-4F7E-8CB8-280B7ED09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F524-B27C-4A2B-9D39-854203C9B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7E30-9E93-40A2-82D2-71EC04CF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0A90-862D-4563-8DBC-582CAF95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784B-BDFA-458B-B340-AA40319F5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D804-E033-4FE5-A341-F22304BF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DB94-6591-4EF2-BA87-81DD73FD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4064-9EC1-47D5-9997-58793678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58418-F6C4-4F8C-960F-6EE9173871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